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08B-1AB9-41ED-88DA-36C670B2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959-EEA4-4762-8BAF-A0B8F775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77C-2468-4E94-B646-45B76497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FD9-6787-4D81-952D-D052599B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3444E-08AE-4855-9B6B-36B90DBA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A037D-AE97-4DC5-95E1-1B509A10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C969-796C-4BE7-B184-EC49A931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66CFB-3EC4-44E9-8DAF-BA47CEC3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8AA7B-6010-48BE-AD39-6A5F5D4F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B74F8-1A32-4BC2-B9D6-B979C5D6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88148-4952-42A1-9230-1DC78CEB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F4F-7C69-4746-9321-3E5B85A2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34C3B-C9B5-4C5D-84E7-5896FDD2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0FC5C-60D5-448D-B651-458BA786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C94DD-C106-4998-8859-6670665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FA3B2-A9CF-44C1-A56F-CD461429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CD1D3-F6A8-40EC-9CAE-12C56677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5F83-E134-405C-88A2-8A6B2EDF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7DD0-E857-421E-82C3-E3A65DCC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6398-42BD-47D0-AD0F-F5F6D234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7D6F4-7FE5-439A-808A-9A71CC7B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EC9D-837E-45CD-8325-17EA1D11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CED-C868-434C-8629-3C725281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941C-9CC7-4812-B52C-21FA996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E4C1-7EAD-42BB-B1AA-DB41CB5F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1771-9530-42D4-9261-319164A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35DD-63B8-44DF-ABC9-7FD6A417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80B7-AD3D-4918-81D3-2F0ADB3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85E90-1885-4447-BBCE-B592212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0E52-66E5-4A44-9B18-D0531CEE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E6D3D-A2F5-4301-8B97-B41C2981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A9349D-800B-4B98-8EF9-17916DC2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5BAB6-1810-4C36-B32B-7EF224FB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495-3D0E-4061-B71D-53293F03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2DB95-CBC5-494A-A2D4-4C3F3EA8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5CA91-E3B5-431F-A58B-B6B5CE85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04B9D-5358-4F48-9195-78BEDF6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97583-91A9-4AE4-AF41-60B7DAE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DB930D-B0CC-4CD4-B136-1B6D80FE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36A1E-C4B1-43E9-81CA-66F3270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46EA5-1302-4611-ABBD-F0ACC10F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C27F4-F132-48B0-A924-C3E4FDEA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52827-861C-4A8C-9E56-C9682081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FF964-26E8-48CA-8229-A11CADAB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3BB-5219-4C97-9664-FFEDA899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3F1CE-A47D-4D53-997F-8F54B747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75A6D-892C-4DF3-B82C-0B4CC6FC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AE0E0-79ED-4197-9275-BBA23C3E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10412-6C0E-4E2F-8504-798D26BF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A6F6F-F961-4BD3-A28B-91DED882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5DA78-F332-44F3-B78F-9755528D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9A3B7-5D1B-4D39-B722-80A18DE8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37E2B-AD4F-493C-BC49-D04A9DC5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F1AE7-AC97-4753-A0B9-B99DAA8C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D0724-2AEB-4A2C-A1A0-7BF0C799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21C-738B-432F-BAAD-E8F5858B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3CBE4-B395-4619-B29E-C0C01E99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02F9E-3F12-471F-8B4D-0F119279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FF5EA-238C-4BCE-99AC-6A208C4A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91549-736E-469D-90D7-F735E8BA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C304D-9885-4682-9D54-AD2F7311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CD666-A860-48BA-AB97-E5F4451E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D2F12-5B53-4652-931B-73F5DF77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BAFA9-FD33-4DD9-A530-9CAF934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09DD0-7EB2-4193-9C7B-E65C1C0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62AA8-28F7-436D-8043-AA006AC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E48-86D5-4111-B51D-3EF2C9A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A5F8B-4133-473F-9FE8-66B322C1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FD67F-0C3C-4BF1-9580-C2E0D71B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CDE17-A093-4FF3-9661-AF4F7539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19C-7C09-40CF-9BB7-BA6065E4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672-8482-4389-894D-AD58BCA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7A327-EFEC-4800-9C75-4F54441A6F12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491EF-0301-4B30-B046-65AFEB68FEC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E2689-3531-4AC3-88CF-4318E5F75F92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68601-BAF2-4549-88B5-1F5B9151D24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0AD9E-EDC5-479C-810D-0114DD2C80BC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118A2-C958-46BC-8014-71E86FB9A11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22F85-6A84-4EDF-A283-3D4B3FCF11E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B42D9-FCBE-4260-B687-8709AB0A8058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DCEB1-70F8-4D9D-B02C-63866187BDBC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B79FE-ED5E-4619-90E2-03719D8016C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99F08-CF90-42AE-A99B-4EAA1891044F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915C3-975E-42A3-97F8-2B688B04E31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error on the Western Front: Death, Destruction and Dismemberment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152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,400 guns packed along the eight mile front, served by nearby railway facilit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00, 000 shells poured into Verdun every hou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Intention?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ill as many French defenders as you can before an infantry adv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the end of the first day, German forces had only captured front line trench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9f9f9"/>
                </a:solidFill>
                <a:latin typeface="Constantia"/>
              </a:rPr>
              <a:t>Artillery at </a:t>
            </a:r>
            <a:br>
              <a:rPr sz="3800"/>
            </a:br>
            <a:r>
              <a:rPr b="0" lang="en-US" sz="3800" spc="-1" strike="noStrike">
                <a:solidFill>
                  <a:srgbClr val="f9f9f9"/>
                </a:solidFill>
                <a:latin typeface="Constantia"/>
              </a:rPr>
              <a:t>Verdun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55640" y="2973240"/>
            <a:ext cx="7620120" cy="3152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813120" y="237960"/>
            <a:ext cx="456264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ench Lieutenant Colonel, Emile Driant had been killed and his battalion had been reduced from 600 to 180 m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 lost some momentum, after infantry is withdrawn to allow further artillery bombard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rench situation was pretty b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pon losing Douaumont, the French sentiment was one of unwavering resol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&gt; Popular sentiment demanded its recapture, making a withdrawal from Verdun impossib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rench commanding officer, Joffre, issued a warning stating that anyone leaving would be court-martial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French Soldier killed at Verdun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troversial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taged or true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00720" y="1371600"/>
            <a:ext cx="40100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the remainder of the next few months, German attacks were met with counter attacks, with casualties mounting on both sid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the time the battle ended almost 1 million casualties were tallied in roughly equal numbers for both si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Death in the trenches at Verdun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258920" y="1371600"/>
            <a:ext cx="5977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ench forts could only hold out for so long, reserves of water were gone, and the forts themselves begin to crumb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New chemical warfare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, at this point, began unveiling phosgene gas, which was acted by forming hydrochloric acid once in the lu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an attempt to drain German manpower from Verdun, a major offensive was staged elsewhere at the Battle of the Som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iginally planned to begin August 1, it was moved to July 1 to help divert German resources elsewhe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ortune com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a sudden drain in German resources to the Eastern Front provides a sense of vindic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the time it ends casualties were listed at 550, 000 French losses and 434, 000 German lo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he only impact?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unding of both armies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5" name="Text Placeholder 8" descr=""/>
          <p:cNvPicPr/>
          <p:nvPr/>
        </p:nvPicPr>
        <p:blipFill>
          <a:blip r:embed="rId2"/>
          <a:srcRect l="11119" t="4169" r="10155" b="7294"/>
          <a:stretch/>
        </p:blipFill>
        <p:spPr>
          <a:xfrm>
            <a:off x="457200" y="549360"/>
            <a:ext cx="793116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membered primarily for the unparalleled loss of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8, 000 British troops killed on the first day alone, July 1, 191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mary scope of the battle was to drai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German forces of reserves, and als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gain territo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ttack actually began on June 24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ith an eight day bombardment of German lin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620040" y="2933640"/>
            <a:ext cx="2066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9f9f9"/>
                </a:solidFill>
                <a:latin typeface="Constantia"/>
              </a:rPr>
              <a:t>The Somme – North Eastern France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042920" y="1371600"/>
            <a:ext cx="7172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View from Elevated trenche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187280" y="1447920"/>
            <a:ext cx="66675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expectation of this was that German defenses would be destroyed, enabling British troops to walk across no man’s la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,500 British guns were employ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50, 000 men went into the atta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One proble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many of the advance artillery munitions were ‘duds’ –poorly made and ineffecti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British Trenches – “Over the Top”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258920" y="1447920"/>
            <a:ext cx="62643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attack was of no surprise to the Germans, in fact the eight day bombardment served merely to alert Germans of an imminent attack.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HOW CAN THE ALLIES EFFECTIVELY COORDINATE AN ATTACK?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ajority of soldiers who went over the top were killed instantly, or forced back into their trenches by machine gun fi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the end, poor weather had brought a halt to the Somme on November 1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2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itish and French had gained 12 kilometers of grou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itish casualties were estimated at 420, 0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ench casualties were 200, 0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 casualties were around 500, 0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itics argue that an inflexible approach was a main issue, or that the British were compelled into battle to relieve the French at Verd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4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ad Handout and answer this question in one p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 do we assess responsibility for such an immense, unnecessary, loss of life?”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6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" descr="Douaumont Ossuary at Verdun"/>
          <p:cNvPicPr/>
          <p:nvPr/>
        </p:nvPicPr>
        <p:blipFill>
          <a:blip r:embed="rId2"/>
          <a:stretch/>
        </p:blipFill>
        <p:spPr>
          <a:xfrm>
            <a:off x="1116000" y="9414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Christmas day 1915, a letter is sent to Kaiser Wilhelm 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etter outlines that the key to winning the war was not to be found on the Eastern Front, but on the Western Fro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Rationalization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f France could be defeated, Britain would also seek terms, or be defeated as wel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 believed that Britain formed the foundation of the Allied effort, and must be remov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gan implementing a policy of unrestricted submarine warfare against British shipping in an attempt to starve Britain ou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Proble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This ran the risk of bringing the U.S. into the w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erdun, itself, held specific meaning to the Fren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was the last fortress to fall during the Franco-Prussian war, and it had been improved si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nce, it was of great symbolic significance and maintained a psychological hold on the minds of the French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y knew this… and counted on it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9f9f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9f9"/>
                </a:solidFill>
                <a:latin typeface="Constantia"/>
              </a:rPr>
              <a:t>Start</a:t>
            </a:r>
            <a:endParaRPr b="0" lang="en-US" sz="44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Finish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635280" y="476280"/>
            <a:ext cx="4391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bject Verdun to intense bombardment to draw in and divert French troops from all over the Western Fro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eed France white” until it can stand no long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ormidable opposi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1 million Germans vs. 200, 000 defen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ttle begins: 07:15 on February 21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3:56:56Z</dcterms:created>
  <dc:creator>Office 2004 Test Drive User</dc:creator>
  <dc:description/>
  <dc:language>en-US</dc:language>
  <cp:lastModifiedBy>nbdoe</cp:lastModifiedBy>
  <dcterms:modified xsi:type="dcterms:W3CDTF">2010-04-22T16:09:46Z</dcterms:modified>
  <cp:revision>11</cp:revision>
  <dc:subject/>
  <dc:title>Verdun and the Somme</dc:title>
</cp:coreProperties>
</file>